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7C034C1-CF06-430C-8600-D8D69A32EA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CE74783-F642-4FD2-B442-2375C84CA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14FBEE2-B43F-4D27-9859-723DA19FA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3CA-50AF-4A0A-98F0-79934679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02F-2B97-4237-BDBD-11B57B18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A996-50C0-42F2-9D06-F2D1B966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D06-3BE2-4A6C-A5FA-ADF894FD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29E-7D60-4790-B7D0-37562210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09D4-C4C5-4565-8079-59854186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8EF-3E88-4626-B5B9-E07489C9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EBE-9812-43BE-AFFD-0AA96C70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C4C-6223-40F1-B69F-F034D393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17B-8FA0-4E4D-9EFA-03C95375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A6CF-8C7A-4E7A-9B88-C676FFB5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4DE-4F51-4295-B53D-0D166E4C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EC5182A-628A-4AF5-AA57-A5580080D987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ECDB707-DBD0-4556-BFBF-4994980324C2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200400" y="685800"/>
            <a:ext cx="7920" cy="6629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0" y="762120"/>
            <a:ext cx="29718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honics ( Long Vowels o, u, 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tegorize your spelling words into 3 groups (o,u,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x.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u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        c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u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       th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629400" y="2746440"/>
            <a:ext cx="29718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rammar- Write an answer to the following questions using complete senten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hat Special do you have on Wednesda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here do you liv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hat did you do on Friday?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200400" y="4952880"/>
            <a:ext cx="335268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urrent ski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ocabulary  (Compound Wor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ke the following words and make 7 compound words.  Then write each word in a sentence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Underlin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the compound word in each sentenc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ight        place     rain  fire    yard   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ck        camp     flash    some   skate  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ow    board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itials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6629400" y="76212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ling (.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out a story you are reading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52280" y="2746440"/>
            <a:ext cx="264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estion (?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be answered by a story’s main character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352680" y="1219320"/>
            <a:ext cx="25606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each word 3 times in your best handwri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0" y="5257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nbow Spell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udents may type (preferred) or write each word with vowels and consonants in a different font style or col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321000" y="2870280"/>
            <a:ext cx="2959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rview a relative or person in your community that you would like to get to know.  Write down  5 questions that you would like to ask that person.  Then interview that person by asking the questions that you wrote down ahead of time.  Write down the answers that he/ she gives you in  complete sent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781680" y="5029200"/>
            <a:ext cx="256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5 sentences that us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otation (“ ”) mark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show someone speaking. Write a conversation by the characters in your 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0" y="0"/>
            <a:ext cx="937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lling Homework for Henry and Mudge and the Starry Night.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udents must complete Tic-Tac-Toe (three in a row – and they must use the center square). All work should be completed in the student’s homework journal. The journal, with completed work,  and the board, with parent initials are due: __________________________________________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7924680" y="457200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ar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itials: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32:00Z</dcterms:created>
  <dc:creator> </dc:creator>
  <dc:description/>
  <dc:language>en-US</dc:language>
  <cp:lastModifiedBy>Mits Mits</cp:lastModifiedBy>
  <cp:lastPrinted>2009-10-19T10:55:04Z</cp:lastPrinted>
  <dcterms:modified xsi:type="dcterms:W3CDTF">2009-10-19T10:55:30Z</dcterms:modified>
  <cp:revision>21</cp:revision>
  <dc:subject/>
  <dc:title>Slide 1</dc:title>
</cp:coreProperties>
</file>